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57DD-318B-45B7-9E1E-B39EA927C42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erson with building and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8100-B6F1-40E7-8C53-BBD6BFA3ADB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E79C-3DD6-47F0-A858-B4933CBC12D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EA0-DBB4-42E7-8A2F-62B09901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BB4-6E4E-4899-8E1B-84F4C029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948-A252-4620-BC14-01A59C35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0AE-64BB-4AF8-922A-8833395F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556-6934-43A0-8076-569A274F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28F-BBB9-4CF5-B60E-06D2647C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3B5-1D05-4DBA-A805-F17F7EB6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38E-94DE-4E9C-BD95-CF0A8D24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238-BF84-4FC6-B338-D51E6F84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016-808D-4FBC-8F5C-57E4FF5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D1C-96E2-48A8-980F-5022B534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8E5-09DB-4A9D-B81F-436A2FFD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8674-D3BF-447D-B503-CC5D81A2EA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inerg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irtual GPS tour of central Dune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on diagram.jpg"/>
          <p:cNvPicPr/>
          <p:nvPr/>
        </p:nvPicPr>
        <p:blipFill>
          <a:blip r:embed="rId1"/>
          <a:stretch/>
        </p:blipFill>
        <p:spPr>
          <a:xfrm>
            <a:off x="857160" y="500040"/>
            <a:ext cx="714384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116000" y="333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onceptual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45360" cy="539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900000" y="26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26920" y="404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in the Second Iteration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84360" y="198900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king tour o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ntitled"/>
          <p:cNvPicPr/>
          <p:nvPr/>
        </p:nvPicPr>
        <p:blipFill>
          <a:blip r:embed="rId1"/>
          <a:stretch/>
        </p:blipFill>
        <p:spPr>
          <a:xfrm>
            <a:off x="4643280" y="1484280"/>
            <a:ext cx="2891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76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being left for the third it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700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ftware to be able to add new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95280" y="40464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ime Line from now until second iteration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2349360"/>
            <a:ext cx="388764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Map on PDA, Class desig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Form design, Create a hard coded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xml file,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Read GPS co-ordinates from PD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4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PDA reading from xml fi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572000" y="2349360"/>
            <a:ext cx="36720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5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Render waypoints on m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aypoints information,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7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Linking waypoints,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Final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1:03:54Z</dcterms:created>
  <dc:creator>default-user</dc:creator>
  <dc:description/>
  <dc:language>en-US</dc:language>
  <cp:lastModifiedBy>Default-User</cp:lastModifiedBy>
  <dcterms:modified xsi:type="dcterms:W3CDTF">2009-04-27T23:20:53Z</dcterms:modified>
  <cp:revision>8</cp:revision>
  <dc:subject/>
  <dc:title>Sinergetics</dc:title>
</cp:coreProperties>
</file>